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F6146-457B-4A5F-A452-17753B98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2BDA-E86B-463C-A0B1-4834CA15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038F3-F37E-48E2-B2D6-91F4E693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88FB7-CDE3-4184-8355-2662A100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192D-492C-4765-959D-9067D228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3294-54FC-44B3-A5ED-DA59B33E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E181-E19C-42CE-A32E-38B90580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FB25-DCA3-47ED-A904-C3B53A5B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CC09-988A-4235-B6AD-7D168537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A976-F2AD-4379-AA3C-88FF9197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8FC0-B52F-4BC5-BD75-7F2D1D28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4059F-0D5A-487C-B82A-8CEE818C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33E8-08D4-4C6A-B852-D63E3A14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293E-D97C-4250-84C6-C4F44445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672E-29E5-4078-86E0-3E9CD83E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CF52-E0D7-4B26-99E5-E84A6BD1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C650-68CE-41B4-AB2E-5999C595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FEEC1-3F5D-4A00-A4F0-6694C07F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0FCA-F676-47C2-BDAC-F020CB6F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B80C1-3D6B-4856-B25B-B4DC428E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AF8F-D517-4DE2-93D8-CF769813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5C21-BCEB-43F7-AEA7-BDDCB50A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F3B8-A196-4D71-9F9C-12465B04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20A7-8001-4D64-9DF8-65D35931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F89A-F9A4-4FC5-B437-299DDBC4A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50B5-4FD2-4146-B461-B21499B8D6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neral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challenge you with random cip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Games men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structions on the scre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game help 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explain the details o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ing against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191120" y="1676520"/>
            <a:ext cx="4647960" cy="41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550B-FAC9-4676-A23D-7DFAB99556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run standardized randomness tests against binary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828800" y="2895480"/>
            <a:ext cx="68580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8D553-51D4-4E02-B5DA-4A91259325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provides a tool for long integer arith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733920" y="2666880"/>
            <a:ext cx="377964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1DAB-C6D7-4DDE-A5FF-E370FEF7E4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can monitor your code breaking activities and provide a record of your use of other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help you avoid redo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724280" y="1752480"/>
            <a:ext cx="35467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B213-91D2-4450-8BA5-01040329C1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alysis Bar offers tools than may prove useful in breaking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562720" y="838080"/>
            <a:ext cx="136368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B04BB-5C84-452B-929D-FFA52B7566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is a general purpose tool for the study of classical (and some contemporary) ciph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is really three related programs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that will encrypt and decrypt text using your choice of several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tools for breaking unknown cip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me which will generate random ciphers and challenge you to break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" y="5867280"/>
            <a:ext cx="74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his presentation will introduce you to the general features of 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BC8C-5233-4DC3-915F-FC0ACA5D8D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items below to jump to help on the specific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just continue to advance through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276720"/>
            <a:ext cx="2333880" cy="542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3886200"/>
            <a:ext cx="2343240" cy="51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520" y="4457880"/>
            <a:ext cx="2390760" cy="49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7086600" y="44197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3657600" y="5638680"/>
            <a:ext cx="2362320" cy="4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609480" y="6172200"/>
            <a:ext cx="231480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3657600" y="3276720"/>
            <a:ext cx="2371680" cy="51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3657600" y="4419720"/>
            <a:ext cx="2343240" cy="52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3657600" y="3886200"/>
            <a:ext cx="2314440" cy="466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3581280" y="5029200"/>
            <a:ext cx="2571840" cy="542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609480" y="5029200"/>
            <a:ext cx="2333880" cy="514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533520" y="5562720"/>
            <a:ext cx="2571480" cy="51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0DD04-D6F8-4264-9825-D0D0DDB09C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81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first open CAP this is the main wind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5257800" cy="45957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7086600" y="2286000"/>
            <a:ext cx="1219320" cy="762120"/>
            <a:chOff x="7086600" y="2286000"/>
            <a:chExt cx="1219320" cy="762120"/>
          </a:xfrm>
        </p:grpSpPr>
        <p:sp>
          <p:nvSpPr>
            <p:cNvPr id="134" name=""/>
            <p:cNvSpPr/>
            <p:nvPr/>
          </p:nvSpPr>
          <p:spPr>
            <a:xfrm>
              <a:off x="7086600" y="22860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64360" y="2286000"/>
              <a:ext cx="113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012440" y="3886200"/>
            <a:ext cx="1310040" cy="762120"/>
            <a:chOff x="7012440" y="3886200"/>
            <a:chExt cx="1310040" cy="762120"/>
          </a:xfrm>
        </p:grpSpPr>
        <p:sp>
          <p:nvSpPr>
            <p:cNvPr id="137" name=""/>
            <p:cNvSpPr/>
            <p:nvPr/>
          </p:nvSpPr>
          <p:spPr>
            <a:xfrm>
              <a:off x="7022880" y="38862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2440" y="388620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Cipher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3A12-7FE5-4396-A96C-44CABEE12C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men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86200" y="1981080"/>
            <a:ext cx="441468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4191120" y="1981080"/>
            <a:ext cx="990360" cy="533520"/>
            <a:chOff x="4191120" y="1981080"/>
            <a:chExt cx="990360" cy="533520"/>
          </a:xfrm>
        </p:grpSpPr>
        <p:sp>
          <p:nvSpPr>
            <p:cNvPr id="146" name=""/>
            <p:cNvSpPr/>
            <p:nvPr/>
          </p:nvSpPr>
          <p:spPr>
            <a:xfrm>
              <a:off x="4191120" y="1981080"/>
              <a:ext cx="990360" cy="533520"/>
            </a:xfrm>
            <a:prstGeom prst="wedgeRoundRectCallout">
              <a:avLst>
                <a:gd name="adj1" fmla="val -43268"/>
                <a:gd name="adj2" fmla="val 78569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2560" y="1981080"/>
              <a:ext cx="94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onver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ASC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55520" y="2819520"/>
            <a:ext cx="4340160" cy="3200400"/>
            <a:chOff x="155520" y="2819520"/>
            <a:chExt cx="4340160" cy="3200400"/>
          </a:xfrm>
        </p:grpSpPr>
        <p:sp>
          <p:nvSpPr>
            <p:cNvPr id="149" name=""/>
            <p:cNvSpPr/>
            <p:nvPr/>
          </p:nvSpPr>
          <p:spPr>
            <a:xfrm>
              <a:off x="3962520" y="2819520"/>
              <a:ext cx="53316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2133720" y="3200400"/>
              <a:ext cx="157788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55520" y="3505320"/>
              <a:ext cx="196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verting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s is usefu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a variety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ph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9CCC1-BA9B-40FE-BDA0-4CF254EE21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 men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403848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FFD4-2C04-477F-88B5-A9AA49017A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is the process of separating the ciphertext into segments of fixed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it easier to read without giving away standard word sp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2390760" cy="3324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134320" y="434016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Block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87840" y="2971800"/>
            <a:ext cx="3588480" cy="1521000"/>
            <a:chOff x="987840" y="2971800"/>
            <a:chExt cx="3588480" cy="1521000"/>
          </a:xfrm>
        </p:grpSpPr>
        <p:sp>
          <p:nvSpPr>
            <p:cNvPr id="162" name=""/>
            <p:cNvSpPr/>
            <p:nvPr/>
          </p:nvSpPr>
          <p:spPr>
            <a:xfrm>
              <a:off x="1197000" y="3407040"/>
              <a:ext cx="31428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7840" y="297180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out spa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7440" y="3505320"/>
              <a:ext cx="289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klttekwpov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tnbzyqacee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77840" y="4654440"/>
            <a:ext cx="3429000" cy="1521000"/>
            <a:chOff x="1077840" y="4654440"/>
            <a:chExt cx="3429000" cy="1521000"/>
          </a:xfrm>
        </p:grpSpPr>
        <p:sp>
          <p:nvSpPr>
            <p:cNvPr id="166" name=""/>
            <p:cNvSpPr/>
            <p:nvPr/>
          </p:nvSpPr>
          <p:spPr>
            <a:xfrm>
              <a:off x="1077840" y="5089680"/>
              <a:ext cx="34290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97640" y="4654440"/>
              <a:ext cx="33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 bloc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4040" y="5187960"/>
              <a:ext cx="311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 kltte kwpov 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 tnbzy qacee 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062D-4129-49A2-AE79-C6CD10B824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s Menu lists all the possible algorithms which CAP is capable of ru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are being added all th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mplement a cipher, click 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s name in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2827440" cy="4648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2240" y="4267080"/>
            <a:ext cx="40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Help on each cip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vailable from the main help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from the help feature of ea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ci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E07F-920F-4445-8B19-A26A6C7F71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solv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olve is not active at this time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B3E25-03D8-41E5-BD35-BDA6F14FEB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2T00:45:37Z</dcterms:modified>
  <cp:revision>23</cp:revision>
  <dc:subject/>
  <dc:title>CAP Cryptographic Analysis Program</dc:title>
</cp:coreProperties>
</file>